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AAD-38BF-446F-86F9-4AE95E9C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E11-1714-444C-972B-EAE201F3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F72-C9CC-4895-9C84-E721C66A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0AE-7C15-4401-9A8D-23FC99B2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F55-7A28-4086-8D75-3D064FF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530-8BF4-475A-BB01-601E71F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62E-4444-446F-97D7-9D23C47D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68B-D0AE-4913-88C9-AC637696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228-34DA-417D-A57C-E357597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2BD-8546-4FBB-90A6-591C6768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EDD-A1ED-48D6-A79C-0933169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1E3-A019-4A6E-87FC-C4BC2885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C392-3A8A-499D-B203-4F3FA3CAC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Book Antiqua"/>
              </a:rPr>
              <a:t>Holocaust Review Game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43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y the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had the highest Jewish death to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Ger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Po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6477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bo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e Wie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imo L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aul Stein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Wladyslaw Szpil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31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800600" cy="33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80988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 way to identify R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A way to identify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A way to identify homosex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 way to identify the physically disab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8001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Nazi party member, owned Deutsche Emaillewaren-Fabrik and saved over 1,000 Jew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Victor Bo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Karl Plag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skar Schi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aoul Wall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35908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2284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14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dechai Rumkowski, leader of the Jewish administrative group in the Lodz Ghetto. What were these groups in every ghetto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Judenle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Judengru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Juden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denreg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96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ame did the Nazis add to every male Jew’s name in 1938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Yizh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Jos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53316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zi answer to the "Jewish question in Europe" reached at Wannsee in 1942 was called…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0"/>
            <a:ext cx="5639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 Final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 Final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 Final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085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67053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Nazi concentration and extermination camps were located in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West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South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The French-German B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Eastern 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5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28600"/>
            <a:ext cx="5715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ree were extermination cam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Buchenwald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bibor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Dachau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Drancy, Treblinka, Auschwit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94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496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Joseph Goeb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rman G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Josef Meng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Reinhard Heyd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71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18:28Z</dcterms:created>
  <dc:creator>Student</dc:creator>
  <dc:description/>
  <dc:language>en-US</dc:language>
  <cp:lastModifiedBy>Student</cp:lastModifiedBy>
  <dcterms:modified xsi:type="dcterms:W3CDTF">2008-05-01T04:00:34Z</dcterms:modified>
  <cp:revision>3</cp:revision>
  <dc:subject/>
  <dc:title>Holocaust Review Game</dc:title>
</cp:coreProperties>
</file>